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52D-193E-4398-86EA-18CE5E6F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122-37D8-4A61-B022-D26C9010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1CD-F41A-44A6-B53B-1CD5CBC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E21-E422-408A-ACF6-E4D23D73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A4E-A0DB-4A46-B7E7-48B949A5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BBE-1307-48AE-A096-BE52708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794-BAA1-4147-8CBF-99E3F271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04F-0DB9-4069-A8D1-71DB5935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202-62E7-459C-BBF7-6184730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8B3-00A6-4A4F-B5D0-2397856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542-E6C9-4988-A636-062912D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CFC-94F6-4D24-96AA-16375B1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A6B-883B-431E-B091-F4908BF8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A ANADOLU LİSES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ULARINA GÖRE ŞİİR TÜR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zırlayan:DENİZ GRU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rgül CELEP,Nursun KARAGÜL,Emel USLU,                         Nilüfer BEYAZ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5373720"/>
            <a:ext cx="1439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Ç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Şiir sevgisi kazandır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Şiir türlerini öğret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unan bir şiirin konusundan hangi gruba ait olduğunu kavrat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Şiirler konularına gö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lirik( coşku ve heyecanı anlatan), epik(konusu yiğitlik ve kahramanlık olan ), didaktik(öğreticilik esası taşıyan),pastoral(çoban ve doğa güzelliği olan)ve dramatik( tiyatro tekniğine uygun olan) olmak üzere gruplara ayrılı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EL S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ygu paylaşımı neden bir ihtiyaçtı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NİTE SORU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Şiirde konu ve tema n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Konularına göre şiir türleri nelerdir?  3)Şiirleri gruplara ayırırken hangi ölçütlere bakarız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ÇERİK SORU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Konusu doğa güzelliği ve çoban hayatı olan şiirlere ne ad verilir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Coşku ve heyecanı anlatan şiirlere ne ad verili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Türk edebiyatında çok fazla örneği olmayan şiir türü hangisidir ve bunun sebebi nedi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ramatik şiir dendiğinde Türk edebiyatında hangi şair akla geli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emel Sorular ve Ünite Sorularını aşağıdaki amaçlarla kullanacağı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uşurken ve yazarken düşünceleri ve fikirleri açık ve etkili bir şekilde birleştirip kullan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klı takımlarda etkin çalışabilme becerisi gösterm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ak bir amaca ulaşabilmek için gerekli çabayı gösterecek şekilde esnek ve istekli ol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İşbirliğine dayalı çalışmalar için sorumluluğu paylaş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Öğrenci Gereksinimlerini Ölç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Ölçme sonucunda ne öğreneceği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ğrencilerimin bu konuyu ne kadar öğrendikle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ğrenilenlerin uygulama ve uyarlama dereces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Şiirlerle dolu bir yaşam umuduyl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şekkür ederiz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9:42:37Z</dcterms:created>
  <dc:creator>KEDİ</dc:creator>
  <dc:description/>
  <dc:language>en-US</dc:language>
  <cp:lastModifiedBy>KEDİ</cp:lastModifiedBy>
  <dcterms:modified xsi:type="dcterms:W3CDTF">2011-01-06T10:47:05Z</dcterms:modified>
  <cp:revision>5</cp:revision>
  <dc:subject/>
  <dc:title>Slayt 1</dc:title>
</cp:coreProperties>
</file>